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2880" y="694800"/>
            <a:ext cx="46400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5568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CA3B-0DE7-4BA4-B746-1AAB25DFD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35D3-0E66-44A5-B793-E8823D43D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4808-63E7-4674-A298-3B0DABF1B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C377-3F5E-4908-BF41-66DE6BD81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Handler’s framework, the first critical step in determining how well a program achieves its desired outcomes is the systematic and comprehensive measurement of the program’s structural capacity and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87E3-3F26-4A73-8879-5B0872498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data were entered into a database and descriptive and statistical analyses were perform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ed interviews were transcribed and imported into ATLAS.ti for coding to identify unique and cross-cutting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483A-C1BA-4E61-8CE1-285122091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5702-C23D-4D00-9D29-8D62B9090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E3FF-4A38-43BA-BAB9-AF91B28CF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2" marL="914400" indent="0"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F608-6719-46C7-B1CF-F0270B5F5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62E9-94F9-4B53-BFE5-259EDC6B4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AF8D-01EB-47D9-843F-9DDD11001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0CB0-C6E3-4976-9A36-018AA880A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70C-2B4B-4257-BA39-79476CDB4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3240" y="695160"/>
            <a:ext cx="4640040" cy="34815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9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B5A-B6EE-47FB-8115-7D416212E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83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3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3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83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83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33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e3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2" name="Line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33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e3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e3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7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27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1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UNC_GILLINGS_542"/>
          <p:cNvPicPr/>
          <p:nvPr/>
        </p:nvPicPr>
        <p:blipFill>
          <a:blip r:embed="rId2"/>
          <a:srcRect l="0" t="15161" r="0" b="15161"/>
          <a:stretch/>
        </p:blipFill>
        <p:spPr>
          <a:xfrm>
            <a:off x="0" y="6019920"/>
            <a:ext cx="3124080" cy="809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45720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370"/>
                </a:solidFill>
                <a:latin typeface="Arial"/>
              </a:rPr>
              <a:t>North Carolina Preparedness &amp; Emergency Response Research Center (NCPER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a650"/>
                </a:solidFill>
                <a:latin typeface="Arial"/>
              </a:rPr>
              <a:t>Translating Evidence into Action:</a:t>
            </a:r>
            <a:br>
              <a:rPr sz="3200"/>
            </a:br>
            <a:r>
              <a:rPr b="1" lang="en-US" sz="3200" spc="-1" strike="noStrike">
                <a:solidFill>
                  <a:srgbClr val="f0a650"/>
                </a:solidFill>
                <a:latin typeface="Arial"/>
              </a:rPr>
              <a:t>Enhancing the Impact of </a:t>
            </a:r>
            <a:br>
              <a:rPr sz="3200"/>
            </a:br>
            <a:r>
              <a:rPr b="1" lang="en-US" sz="3200" spc="-1" strike="noStrike">
                <a:solidFill>
                  <a:srgbClr val="f0a650"/>
                </a:solidFill>
                <a:latin typeface="Arial"/>
              </a:rPr>
              <a:t>PHEP-Funded Workforce Infrastructure in North Carolina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20, 2011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Relevance of Studying These System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ational trend of regionalizing public health preparedness workforce after 2001 has not been well assessed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rograms are a major investment for PHEP funds (as % of grant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eed to determine if investments are improving core preparedness functions, including response and surveillanc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Objective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a650"/>
                </a:solidFill>
                <a:latin typeface="Arial"/>
              </a:rPr>
              <a:t>Analyze the structural capacity of the PHRST and PHE programs and determine impact of support and services provided by these programs on public health preparedness in North Carolina</a:t>
            </a:r>
            <a:endParaRPr b="0" lang="en-US" sz="3000" spc="-1" strike="noStrike">
              <a:solidFill>
                <a:srgbClr val="f0a650"/>
              </a:solidFill>
              <a:latin typeface="Arial"/>
            </a:endParaRPr>
          </a:p>
          <a:p>
            <a:pPr lvl="1" marL="914400" indent="-5144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heoretical Framework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cxnSp>
        <p:nvCxnSpPr>
          <p:cNvPr id="116" name="Straight Arrow Connector 3"/>
          <p:cNvCxnSpPr/>
          <p:nvPr/>
        </p:nvCxnSpPr>
        <p:spPr>
          <a:xfrm>
            <a:off x="5943240" y="4572000"/>
            <a:ext cx="61020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17" name="Straight Arrow Connector 4"/>
          <p:cNvCxnSpPr/>
          <p:nvPr/>
        </p:nvCxnSpPr>
        <p:spPr>
          <a:xfrm>
            <a:off x="3276720" y="4571640"/>
            <a:ext cx="38160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118" name="Group 17"/>
          <p:cNvGrpSpPr/>
          <p:nvPr/>
        </p:nvGrpSpPr>
        <p:grpSpPr>
          <a:xfrm>
            <a:off x="304920" y="3657600"/>
            <a:ext cx="2971800" cy="2209680"/>
            <a:chOff x="304920" y="3657600"/>
            <a:chExt cx="2971800" cy="2209680"/>
          </a:xfrm>
        </p:grpSpPr>
        <p:sp>
          <p:nvSpPr>
            <p:cNvPr id="119" name="Rectangle 6"/>
            <p:cNvSpPr/>
            <p:nvPr/>
          </p:nvSpPr>
          <p:spPr>
            <a:xfrm>
              <a:off x="304920" y="3657600"/>
              <a:ext cx="2971800" cy="2209680"/>
            </a:xfrm>
            <a:prstGeom prst="rect">
              <a:avLst/>
            </a:prstGeom>
            <a:solidFill>
              <a:srgbClr val="9c9cdf"/>
            </a:solidFill>
            <a:ln w="64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7"/>
            <p:cNvSpPr/>
            <p:nvPr/>
          </p:nvSpPr>
          <p:spPr>
            <a:xfrm>
              <a:off x="304920" y="396216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uctural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388800" y="4311720"/>
              <a:ext cx="2803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uman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formational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rganizational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scal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hysical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3657600" y="4114800"/>
            <a:ext cx="2438280" cy="1143000"/>
            <a:chOff x="3657600" y="4114800"/>
            <a:chExt cx="2438280" cy="1143000"/>
          </a:xfrm>
        </p:grpSpPr>
        <p:sp>
          <p:nvSpPr>
            <p:cNvPr id="123" name="Rectangle 10"/>
            <p:cNvSpPr/>
            <p:nvPr/>
          </p:nvSpPr>
          <p:spPr>
            <a:xfrm>
              <a:off x="3657600" y="4114800"/>
              <a:ext cx="2438280" cy="1143000"/>
            </a:xfrm>
            <a:prstGeom prst="rect">
              <a:avLst/>
            </a:prstGeom>
            <a:solidFill>
              <a:srgbClr val="9c9cdf"/>
            </a:solidFill>
            <a:ln w="64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1"/>
            <p:cNvSpPr/>
            <p:nvPr/>
          </p:nvSpPr>
          <p:spPr>
            <a:xfrm>
              <a:off x="3657600" y="4267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25280" y="458532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pport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6553080" y="3733920"/>
            <a:ext cx="2286000" cy="2057400"/>
            <a:chOff x="6553080" y="3733920"/>
            <a:chExt cx="2286000" cy="2057400"/>
          </a:xfrm>
        </p:grpSpPr>
        <p:sp>
          <p:nvSpPr>
            <p:cNvPr id="127" name="Rectangle 14"/>
            <p:cNvSpPr/>
            <p:nvPr/>
          </p:nvSpPr>
          <p:spPr>
            <a:xfrm>
              <a:off x="6553080" y="3733920"/>
              <a:ext cx="2286000" cy="2057400"/>
            </a:xfrm>
            <a:prstGeom prst="rect">
              <a:avLst/>
            </a:prstGeom>
            <a:solidFill>
              <a:srgbClr val="9c9cdf"/>
            </a:solidFill>
            <a:ln w="64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15"/>
            <p:cNvSpPr/>
            <p:nvPr/>
          </p:nvSpPr>
          <p:spPr>
            <a:xfrm>
              <a:off x="6553080" y="3886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6553080" y="43390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hanced state and local preparedness and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32"/>
          <p:cNvSpPr/>
          <p:nvPr/>
        </p:nvSpPr>
        <p:spPr>
          <a:xfrm>
            <a:off x="380880" y="17524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Grounded in Public Health Systems and Services Research (PHSSR), the studies applied Handler’s framework for assessing system or program performanc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304920" y="61722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dapted from Handler, et al.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Data Collec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Online and paper surveys 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Face-to-face interview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Collection of available secondary data (demographic, funding, and personnel)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and PHE Study Data Collec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ructural capacity dimensions and sample measures: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895480"/>
          <a:ext cx="7315200" cy="368784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Mea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c and other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com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compet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illance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-based data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d funding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nd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Support and Services Data Collec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nline survey asked Preparedness Coordinators (PCs) about 80 unique services across 8 categories: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and lia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miology and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ation and technical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health even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1N1 even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upport and Services Data Collec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Online survey asked LHD staff (communicable disease and TB control nurses) about 11 services concerning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illance, detection, and monitoring of community-acquired infections and potential bioterrorism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ing LHDs with investig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ng clinici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ing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Data Analysi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Mixed methods approach which utilized quantitative and qualitative data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ative data were described and statistical analyses were perform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data were coded to identify unique and cross-cutting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Results: PHRST Stud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7616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nnifer A. Horney, PhD, MPH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Assistant Professor</a:t>
            </a: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 Center for Public Health Preparedness and Department of Epidemiology, Gillings School of Global Public Health, </a:t>
            </a: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North Carolina</a:t>
            </a: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u Turner, DrPH, Director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Section Chief, Epidemiology Section, North Carolina Division of Public Health</a:t>
            </a:r>
            <a:endParaRPr b="0" lang="en-US" sz="2000" spc="-1" strike="noStrike">
              <a:solidFill>
                <a:srgbClr val="f0a650"/>
              </a:solidFill>
              <a:latin typeface="Arial"/>
            </a:endParaRPr>
          </a:p>
        </p:txBody>
      </p:sp>
      <p:pic>
        <p:nvPicPr>
          <p:cNvPr id="94" name="Picture 4" descr="NCCPHP.gif"/>
          <p:cNvPicPr/>
          <p:nvPr/>
        </p:nvPicPr>
        <p:blipFill>
          <a:blip r:embed="rId1"/>
          <a:stretch/>
        </p:blipFill>
        <p:spPr>
          <a:xfrm>
            <a:off x="7086600" y="6019920"/>
            <a:ext cx="1701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Study Response Rate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Individual and team surveys and semi-structured interviews with each PHRST: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% response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Electronic survey of NC LHD PCs: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8% response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Support and Service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A core group of 26 (33%) support and services were received by 75% or more LHD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ignificant variation (p&lt;.05) by PHRST region between the support and services received by LHDs overall and in 3 of the 8 categories: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unication and liais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pidemiology and surveill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i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Variation could not be explained by county- or LHD-level variables, which suggests structural capacity effects variation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Structural Capacit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Most variation was seen in human resources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Variation in team composition was associated with differences in support and servi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s with MD / DO or epidemiologist had larger budgets and provided more support an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s with pharmacists had more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s who received directives from more groups (e.g. state and local) provided more assistance in 7 of 8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Conclusion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Appropriate capacity is essential to achieving the mission of PHRSTs in the NC public health system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Re-evaluate ideal staffing based on what is needed to provide support and services requested by LHD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Develop a “core package” of 26 types of support and services that were provided to 75% of LHD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Conclusion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All PHRSTs reported extensive partner network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they be leveraged to fill identified gaps in PHRST support and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More support and services were provided by PHRSTs who received directives from the most group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ccountability be clarified to maximize the utility of the PHRSTs to both state and local stakehold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Results:  PHE Stud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7616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tudy Response Rate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HE survey, assessment forms, and interviews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2" marL="735480" indent="-3394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respons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mi-structured interviews with PHEs’ hospital supervi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5480" indent="-3394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respons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emi-structured interviews with NCDPH respon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5480" indent="-3394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% respons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nline survey of LHD nur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5480" indent="-33948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3% response rate (74 local health departmen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ervices Provided to LHD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HEs interacted with an average of 10 LHDs each (range, 2 – 20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74% of the CD and TB nurses indicated that they interacted with a PHE in the past year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f the 88 respondents that interacted with a PHEs, 64% interacted with a single PHE, while 36% interacted with 2 – 5 PH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ervices Provided to LHD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ver 85% of LHD respondents reported that the PHE program “greatly” or “somewhat” enhanced: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between hospitals and local public health with regard to communicable disease reporting and investig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iness and completeness of communicable disease reporting in the commu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HD’s ability to be more efficient in reporting and investigating cases/clusters of communicabl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ervices Provided to NCDPH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Conducting syndromic surveillance of community-acquired infections and potential bioterrorism events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Playing an important role in state flu and respiratory disease surveillance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5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Providing a communication channel to clinicians and other hospital staff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Providing a bridge between local/state public health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5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Conducting special studies for NCDPH/CDC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NC PERRC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Translating Evidence to Action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tructural Capacit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a650"/>
                </a:solidFill>
                <a:latin typeface="Arial"/>
              </a:rPr>
              <a:t>Informational Resour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s access/moni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 Carolina’s syndromic 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verage of 4 hospital-based data systems each (e.g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ssions reports, death reports, lab reports, and electronic medical record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s greatest surveillance challenge:  Need to review data from multiple systems to get a complete picture for a single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tructural Capacit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a650"/>
                </a:solidFill>
                <a:latin typeface="Arial"/>
              </a:rPr>
              <a:t>Organizational Resour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s listed their key partn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H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CD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P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erous hospital departments (lab, emergency department, infectious disease physicians, emergency management, information systems, administration, pandemic planning team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hospitals in the stat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Structural Capacit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s in infection control nursing, microbiology, and epidem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d the majority of the Tier 1 and 2 AECs as "important" to the PHE position and ranked their competency as "intermediate" to "advanced" on mo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scal Resour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 has been the same for duration of the program, half the hospitals subsidize th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hospitals said they would consider funding the position should the program be c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Roles and Responsibilitie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1676520"/>
          <a:ext cx="8305920" cy="4922640"/>
        </p:xfrm>
        <a:graphic>
          <a:graphicData uri="http://schemas.openxmlformats.org/drawingml/2006/table">
            <a:tbl>
              <a:tblPr/>
              <a:tblGrid>
                <a:gridCol w="6019920"/>
                <a:gridCol w="1143000"/>
                <a:gridCol w="1143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p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ank of Im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rveillance, detection and monito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ing LHDs with public health investig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hancing communication among clinicians, hospitals, and the public health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cating clinicians regarding diseases of public health impor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al stu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ther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E Roles and Responsibilities during H1N1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1676520"/>
          <a:ext cx="8305920" cy="4922640"/>
        </p:xfrm>
        <a:graphic>
          <a:graphicData uri="http://schemas.openxmlformats.org/drawingml/2006/table">
            <a:tbl>
              <a:tblPr/>
              <a:tblGrid>
                <a:gridCol w="6019920"/>
                <a:gridCol w="1143000"/>
                <a:gridCol w="1143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p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ank of Im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rveillance, detection and monito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isting LHDs with public health investig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hancing communication among clinicians, hospitals, and the public health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cating clinicians regarding diseases of public health impor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al stu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ther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onclusions:  PHE Stud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HEs play an important role in identifying and controlling both small and large outbreaks of communicable diseas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During H1N1 PHEs: 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timely data on status of H1N1 at hospitals to hospital staff, LHDs, and NCD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uided mitigation efforts and policy decision-making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onclusions:  PHE Study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akeholders (NCDPH, LHDs, hospitals) place a high value on the PHE program  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However, not all LHDs are fully aware of the PHE program and services provided by PH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ggests need for more outreach to LHDs about PHE program to increase the program’s impac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CPERRC staff are working with NCDPH and PHEs on developing a promotional intervention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Continuing to work with NCDPH in strategic planning and other research need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Using regional preparedness measures from LHDs (e.g. planning, surveillance, training) to further explore variation of support and servi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 support and services PHRST provide associated with higher LHD preparedn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ructure of PHRSTs or PHE programs have been modified, opportunity exists for us to study how the change effects support and services and overall LHD preparednes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Limitation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ot a longitudinal study designed to show progress, we did not have a baselin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o performance measurements for PHRST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ndings are not generalizable to other stat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North Carolina Preparedness and Emergency Response Research Center (NCPERRC)</a:t>
            </a:r>
            <a:br>
              <a:rPr sz="3200"/>
            </a:b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One of 9 Preparedness and Emergency Response Research Centers (PERRCs) supported by CDC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udying 4 North Carolina public health systems (accreditation, surveillance, workforce infrastructure, and health alert network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artnership with the North Carolina Division of Public Health (NC DPH) and NC Association of Local Health Directors (NCALHD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ranslating Evidence to Action:  Providing data for decision making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ystem-wide strategic planning process undertaken in August, 2010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Results of study used as basis for evaluation of future mission, structure and function of regional support to Local Health Department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imilar to the use of data from PHRST study, information will inform decisions regarding further development and investment in PHE’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ranslating Evidence to Action: Providing data for decision making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udy results can be used by PHEs and program management to assess if priority services are being provided at desired level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uggestions for program improvement from PHEs, NCDPH and hospital supervisors can be considered by program management as they assess the program and plan for its futur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ranslating Evidence to Action:  Providing data for decision making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Findings shared with stakeholders through reports,  presentations, and meeting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resentations at regional and national conferenc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Peer reviewed journal publication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CPERRC staff are participating in NCDPH strategic planning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Translating Evidence to Action:  What does it mean for the future?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Inform how we manage operations in the future (constrained budgets, setting priorities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Integration of the public health capabilitie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Document / Measure success of public health responses (hurricanes, H1N1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Stability of preparedness for the future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UNC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a Ma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nnifer He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issa Markiewi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ison Geo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istine Bev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ol Gunther-Mo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NC Division of Public Health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ie Cas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gan Dav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 Eng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a650"/>
                </a:solidFill>
                <a:latin typeface="Arial"/>
              </a:rPr>
              <a:t>NC Association of Local Health Directors</a:t>
            </a:r>
            <a:endParaRPr b="0" lang="en-US" sz="24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ug Ur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nnifer Horney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.horney@unc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 Turner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u.turner@dhhs.nc.gov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a650"/>
                </a:solidFill>
                <a:latin typeface="Arial"/>
              </a:rPr>
              <a:t>NCDPH established several unique preparedness related workforce programs using PHEP funds:</a:t>
            </a:r>
            <a:endParaRPr b="0" lang="en-US" sz="3200" spc="-1" strike="noStrike">
              <a:solidFill>
                <a:srgbClr val="f0a650"/>
              </a:solidFill>
              <a:latin typeface="Arial"/>
            </a:endParaRPr>
          </a:p>
          <a:p>
            <a:pPr lvl="1" marL="911160" indent="-511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Regional Surveillance Teams (PHR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511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-based Public Health Epidemiologist (PHEs)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911160" indent="-511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e3370"/>
                </a:solidFill>
                <a:latin typeface="Arial"/>
              </a:rPr>
              <a:t>Public Health Regional Surveillance Teams (PHRSTs)</a:t>
            </a:r>
            <a:br>
              <a:rPr sz="2800"/>
            </a:br>
            <a:endParaRPr b="1" lang="en-US" sz="30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CPDH established the PHRSTs in 2001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upport local public health capacity to prevent, prepared for, respond to and recover from public health incidents an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7 PHRSTs support regions of between 7 and 17  local health departments (LHDs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Teams originally included 4 members (physician / epidemiologist, nurse / epidemiologist, industrial hygienist and administrative assistant)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HRST Region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pic>
        <p:nvPicPr>
          <p:cNvPr id="104" name="Content Placeholder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773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Public Health Epidemiologist (PHE) Program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NCDPH established  the PHE program in 2003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mprove communication between hospitals and state and local public health 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11 PHEs based in the state’s largest hospitals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0a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a650"/>
                </a:solidFill>
                <a:latin typeface="Arial"/>
              </a:rPr>
              <a:t>Responsibilities include: </a:t>
            </a:r>
            <a:endParaRPr b="0" lang="en-US" sz="2800" spc="-1" strike="noStrike">
              <a:solidFill>
                <a:srgbClr val="f0a6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illance, detection, and monitoring of community-acquired infections and potential bioterrorism events, assisting LHDs with investigations, educating clinicians and enhancing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3370"/>
                </a:solidFill>
                <a:latin typeface="Arial"/>
              </a:rPr>
              <a:t>Location of PHEs</a:t>
            </a:r>
            <a:endParaRPr b="1" lang="en-US" sz="3200" spc="-1" strike="noStrike">
              <a:solidFill>
                <a:srgbClr val="0e3370"/>
              </a:solidFill>
              <a:latin typeface="Arial"/>
            </a:endParaRPr>
          </a:p>
        </p:txBody>
      </p:sp>
      <p:pic>
        <p:nvPicPr>
          <p:cNvPr id="108" name="Content Placeholder 28" descr="report_PHElocations_map"/>
          <p:cNvPicPr/>
          <p:nvPr/>
        </p:nvPicPr>
        <p:blipFill>
          <a:blip r:embed="rId1"/>
          <a:stretch/>
        </p:blipFill>
        <p:spPr>
          <a:xfrm>
            <a:off x="457200" y="2095560"/>
            <a:ext cx="8229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4:17:56Z</dcterms:created>
  <dc:creator>Skendall John</dc:creator>
  <dc:description/>
  <dc:language>en-US</dc:language>
  <cp:lastModifiedBy>Skendall John</cp:lastModifiedBy>
  <dcterms:modified xsi:type="dcterms:W3CDTF">2011-09-20T18:24:58Z</dcterms:modified>
  <cp:revision>310</cp:revision>
  <dc:subject/>
  <dc:title>Translating Evidence into Action Enhancing the Impact of PHEP Funded Work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/>
  </property>
  <property fmtid="{D5CDD505-2E9C-101B-9397-08002B2CF9AE}" pid="3" name="EktCmsSize">
    <vt:r8>648704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2-10-22T14:01:41Z</vt:filetime>
  </property>
  <property fmtid="{D5CDD505-2E9C-101B-9397-08002B2CF9AE}" pid="8" name="EktDateModified">
    <vt:filetime>2012-10-22T14:01:32Z</vt:filetime>
  </property>
  <property fmtid="{D5CDD505-2E9C-101B-9397-08002B2CF9AE}" pid="9" name="EktDisabledTaxCategory">
    <vt:lpwstr/>
  </property>
  <property fmtid="{D5CDD505-2E9C-101B-9397-08002B2CF9AE}" pid="10" name="EktEDescription">
    <vt:lpwstr>&lt;p&gt;PHE Structural Capacity Organizational Resources PHEs listed their key partners: LHDs  NCDPH  Other PHEs Numerous hospital departments (lab, emergency department, infectious disease physicians, emergency management, information systems, administration, pandemic planning team)  Other hospitals in the state    PHE Struct&lt;/p&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7581</vt:lpwstr>
  </property>
  <property fmtid="{D5CDD505-2E9C-101B-9397-08002B2CF9AE}" pid="14" name="EktSearchable">
    <vt:r8>1</vt:r8>
  </property>
  <property fmtid="{D5CDD505-2E9C-101B-9397-08002B2CF9AE}" pid="15" name="EktShort_Description">
    <vt:lpwstr>Translating Evidence into Action - Enhancing the Impact of PHEP-Funded Workforce</vt:lpwstr>
  </property>
  <property fmtid="{D5CDD505-2E9C-101B-9397-08002B2CF9AE}" pid="16" name="EktTaxCategory">
    <vt:lpwstr> #eksep# \ASTHO Programs\Preparedness #eksep# </vt:lpwstr>
  </property>
</Properties>
</file>