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834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83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898800" y="-360"/>
            <a:ext cx="298296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33280" y="693720"/>
            <a:ext cx="46177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5480" cy="415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FE27120-7303-4E18-A0D2-D57B97CDC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12DFC0A-D1F3-435D-99A3-AB9069509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548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E52EC-AA75-4AC0-A6E9-6ECF2A31B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674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4289400"/>
            <a:ext cx="8674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0F67-EB82-4E33-A780-06D709A1DB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160" y="198072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28940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3160" y="428940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61592-5C8D-4D72-A480-F174CC45B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279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61160" y="1980720"/>
            <a:ext cx="279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4080" y="1980720"/>
            <a:ext cx="279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4289400"/>
            <a:ext cx="279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61160" y="4289400"/>
            <a:ext cx="279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4080" y="4289400"/>
            <a:ext cx="279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82365-1E7D-4487-A424-F84C70789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C43B-7ECD-4790-A618-6893E6283C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28240" y="1980720"/>
            <a:ext cx="86742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DE33-1549-40C9-894F-9864F77680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674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F6DB-362C-4FAB-AE55-8C5F2E3646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32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1980720"/>
            <a:ext cx="4232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8451-2878-4336-9D0B-0C9A6E338B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8210-4D09-42D1-AC0C-20527383AC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C56B-698D-445B-A0BE-35C1786B08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1980720"/>
            <a:ext cx="4232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28940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DC4D-6C67-4CEB-BF39-DEA4BAF549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980720"/>
            <a:ext cx="86742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621F-E689-45BA-8B00-E6BAF3E6E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32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160" y="198072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160" y="428940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BC56-7D2B-4DD2-84B0-AF15146DA3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160" y="198072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289400"/>
            <a:ext cx="8674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694C-67EE-4CD4-8F0F-3E2EA1B864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674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28240" y="4289400"/>
            <a:ext cx="8674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3EB3-5F54-4009-A29D-91974D94AE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160" y="198072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28940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3160" y="428940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F425-87AF-4B23-80B3-4915E27BCC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279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61160" y="1980720"/>
            <a:ext cx="279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080" y="1980720"/>
            <a:ext cx="279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28240" y="4289400"/>
            <a:ext cx="279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61160" y="4289400"/>
            <a:ext cx="279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94080" y="4289400"/>
            <a:ext cx="279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4C34-1F58-4D2A-86BD-E408CD0D41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674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311BC-89F1-49FF-96B8-EFA43D485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32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1980720"/>
            <a:ext cx="4232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585A4-1B20-41D0-AF1D-25984BD40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28678-0BF7-4D09-9A75-48E087DC5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A3851-4A6C-40BA-977A-4F0A80F299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160" y="1980720"/>
            <a:ext cx="4232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428940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8493D-3AC0-42BE-A4B4-E5B27D748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32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160" y="198072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3160" y="428940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30DAB-9CC3-49C2-B08F-A474A44B2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160" y="198072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4289400"/>
            <a:ext cx="8674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3666-7AA0-4BFA-961E-793F9ACE0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28440" y="-61920"/>
            <a:ext cx="9200880" cy="6981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-28440" y="-61920"/>
            <a:ext cx="9200880" cy="698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8240" y="1980720"/>
            <a:ext cx="8674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1375"/>
              </a:spcBef>
              <a:buClr>
                <a:srgbClr val="3333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375"/>
              </a:spcBef>
              <a:buClr>
                <a:srgbClr val="333399"/>
              </a:buClr>
              <a:buSzPct val="9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1375"/>
              </a:spcBef>
              <a:buClr>
                <a:srgbClr val="33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1375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8610480" y="6500880"/>
            <a:ext cx="53352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C787-35BA-436A-98D5-346E3F294D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Object 6"/>
          <p:cNvGraphicFramePr/>
          <p:nvPr/>
        </p:nvGraphicFramePr>
        <p:xfrm>
          <a:off x="762120" y="152280"/>
          <a:ext cx="6379920" cy="790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152280"/>
                    <a:ext cx="63799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" name="Object 7"/>
          <p:cNvGraphicFramePr/>
          <p:nvPr/>
        </p:nvGraphicFramePr>
        <p:xfrm>
          <a:off x="762120" y="152280"/>
          <a:ext cx="6379920" cy="790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2120" y="152280"/>
                    <a:ext cx="63799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9" descr=""/>
          <p:cNvPicPr/>
          <p:nvPr/>
        </p:nvPicPr>
        <p:blipFill>
          <a:blip r:embed="rId2"/>
          <a:stretch/>
        </p:blipFill>
        <p:spPr>
          <a:xfrm>
            <a:off x="-28440" y="-61920"/>
            <a:ext cx="9200880" cy="6981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3"/>
          <a:stretch/>
        </p:blipFill>
        <p:spPr>
          <a:xfrm>
            <a:off x="-28440" y="-61920"/>
            <a:ext cx="9200880" cy="698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Object 6"/>
          <p:cNvGraphicFramePr/>
          <p:nvPr/>
        </p:nvGraphicFramePr>
        <p:xfrm>
          <a:off x="762120" y="152280"/>
          <a:ext cx="6379920" cy="790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152280"/>
                    <a:ext cx="63799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7"/>
          <p:cNvGraphicFramePr/>
          <p:nvPr/>
        </p:nvGraphicFramePr>
        <p:xfrm>
          <a:off x="762120" y="152280"/>
          <a:ext cx="6379920" cy="790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2120" y="152280"/>
                    <a:ext cx="63799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228240" y="1980720"/>
            <a:ext cx="8674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1375"/>
              </a:spcBef>
              <a:buClr>
                <a:srgbClr val="3333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375"/>
              </a:spcBef>
              <a:buClr>
                <a:srgbClr val="333399"/>
              </a:buClr>
              <a:buSzPct val="9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1375"/>
              </a:spcBef>
              <a:buClr>
                <a:srgbClr val="33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1375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3"/>
          </p:nvPr>
        </p:nvSpPr>
        <p:spPr>
          <a:xfrm>
            <a:off x="8610480" y="6500880"/>
            <a:ext cx="53352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A667-29DB-4A1C-AC82-DE232AB9C4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6040" y="2060640"/>
            <a:ext cx="8229600" cy="17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spital Preparedness Program Cooperative Agreement as it related to the Pandemic and All-Hazards Preparedness Act (PAHPA) reauthorization and the National Health Security Strateg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836800" y="4700520"/>
            <a:ext cx="3422880" cy="110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vin Yeskey, M.D.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uty Assistant Secretary Director, Office of Preparedness and Emergency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7" descr=""/>
          <p:cNvPicPr/>
          <p:nvPr/>
        </p:nvPicPr>
        <p:blipFill>
          <a:blip r:embed="rId1"/>
          <a:stretch/>
        </p:blipFill>
        <p:spPr>
          <a:xfrm>
            <a:off x="228600" y="1314360"/>
            <a:ext cx="86742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0" descr="2 - Adopted National Incident Command Structure"/>
          <p:cNvPicPr/>
          <p:nvPr/>
        </p:nvPicPr>
        <p:blipFill>
          <a:blip r:embed="rId1"/>
          <a:stretch/>
        </p:blipFill>
        <p:spPr>
          <a:xfrm>
            <a:off x="649440" y="1898640"/>
            <a:ext cx="67960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312840" y="1981080"/>
            <a:ext cx="8505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4:46:45Z</dcterms:created>
  <dc:creator>Haroun Habib</dc:creator>
  <dc:description>&amp;lt;p&amp;gt;Hospital Preparedness Program Cooperative Agreement as it related to the Pandemic and All-Hazards Preparedness Act (PAHPA) reauthorization and the National Health Security Strategy Kevin Yeskey, M.D.               Deputy Assistant Secretary Director, Office of Preparedness and Emergency Operations * *  &amp;lt;/p&amp;gt;</dc:description>
  <dc:language>en-US</dc:language>
  <cp:lastModifiedBy>Haroun Habib</cp:lastModifiedBy>
  <dcterms:modified xsi:type="dcterms:W3CDTF">2010-09-21T16:37:56Z</dcterms:modified>
  <cp:revision>0</cp:revision>
  <dc:subject>&amp;lt;p&amp;gt;Hospital Preparedness Program Cooperative Agreement as it related to the Pandemic and All-Hazards Preparedness Act (PAHPA) reauthorization and the National Health Security Strategy Kevin Yeskey, M.D.               Deputy Assistant Secretary Director, Office of Preparedness and Emergency Operations * *  &amp;lt;/p&amp;gt;</dc:subject>
  <dc:title>Hospital Preparedness Program as it relates to PAHPA &amp;amp; NHSS-Dr. Yeske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ktCmsPath">
    <vt:lpwstr>&amp;lt;p&amp;gt;Hospital Preparedness Program Cooperative Agreement as it related to the Pandemic and All-Hazards Preparedness Act (PAHPA) reauthorization and the National Health Security Strategy Kevin Yeskey, M.D.               Deputy Assistant Secretary Director, Office of Preparedness and Emergency Operations * *  &amp;lt;/p&amp;gt;</vt:lpwstr>
  </property>
  <property fmtid="{D5CDD505-2E9C-101B-9397-08002B2CF9AE}" pid="3" name="EktCmsSize">
    <vt:r8>441344</vt:r8>
  </property>
  <property fmtid="{D5CDD505-2E9C-101B-9397-08002B2CF9AE}" pid="4" name="EktContentLanguage">
    <vt:r8>1033</vt:r8>
  </property>
  <property fmtid="{D5CDD505-2E9C-101B-9397-08002B2CF9AE}" pid="5" name="EktContentSubType">
    <vt:r8>0</vt:r8>
  </property>
  <property fmtid="{D5CDD505-2E9C-101B-9397-08002B2CF9AE}" pid="6" name="EktContentType">
    <vt:r8>101</vt:r8>
  </property>
  <property fmtid="{D5CDD505-2E9C-101B-9397-08002B2CF9AE}" pid="7" name="EktDateCreated">
    <vt:filetime>2010-10-29T18:09:02Z</vt:filetime>
  </property>
  <property fmtid="{D5CDD505-2E9C-101B-9397-08002B2CF9AE}" pid="8" name="EktDateModified">
    <vt:filetime>2010-10-29T18:09:04Z</vt:filetime>
  </property>
  <property fmtid="{D5CDD505-2E9C-101B-9397-08002B2CF9AE}" pid="9" name="EktDisabledTaxCategory">
    <vt:lpwstr/>
  </property>
  <property fmtid="{D5CDD505-2E9C-101B-9397-08002B2CF9AE}" pid="10" name="EktEDescription">
    <vt:lpwstr>Summary &amp;lt;p&amp;gt;Hospital Preparedness Program Cooperative Agreement as it related to the Pandemic and All-Hazards Preparedness Act (PAHPA) reauthorization and the National Health Security Strategy Kevin Yeskey, M.D.               Deputy Assistant Secretary Director, Office of Preparedness and Emergency Operations * *  &amp;lt;/p&amp;gt;</vt:lpwstr>
  </property>
  <property fmtid="{D5CDD505-2E9C-101B-9397-08002B2CF9AE}" pid="11" name="EktExpiryType">
    <vt:r8>1</vt:r8>
  </property>
  <property fmtid="{D5CDD505-2E9C-101B-9397-08002B2CF9AE}" pid="12" name="EktFolderName">
    <vt:lpwstr/>
  </property>
  <property fmtid="{D5CDD505-2E9C-101B-9397-08002B2CF9AE}" pid="13" name="EktQuickLink">
    <vt:lpwstr>DownloadAsset.aspx?id=5230</vt:lpwstr>
  </property>
  <property fmtid="{D5CDD505-2E9C-101B-9397-08002B2CF9AE}" pid="14" name="EktSearchable">
    <vt:r8>1</vt:r8>
  </property>
  <property fmtid="{D5CDD505-2E9C-101B-9397-08002B2CF9AE}" pid="15" name="EktShort_Description">
    <vt:lpwstr>Hospital Preparedness Program Cooperative Agreement as it related to the Pandemic and All-Hazards Preparedness Act (PAHPA) reauthorization and the National Health Security Strategy</vt:lpwstr>
  </property>
  <property fmtid="{D5CDD505-2E9C-101B-9397-08002B2CF9AE}" pid="16" name="EktTaxCategory">
    <vt:lpwstr> #eksep# \ASTHO Programs\Preparedness #eksep# </vt:lpwstr>
  </property>
</Properties>
</file>