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83400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83200" cy="9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4"/>
          </p:nvPr>
        </p:nvSpPr>
        <p:spPr>
          <a:xfrm>
            <a:off x="3898800" y="-360"/>
            <a:ext cx="298296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33280" y="693720"/>
            <a:ext cx="461772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5480" cy="415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5"/>
          </p:nvPr>
        </p:nvSpPr>
        <p:spPr>
          <a:xfrm>
            <a:off x="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6"/>
          </p:nvPr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79FB083-9A6E-4D23-B39E-F9D13485F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98800" y="8777160"/>
            <a:ext cx="2982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C98C255-08DF-4201-8B20-556B29458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8680" y="4389120"/>
            <a:ext cx="550548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1FDB9-3E54-4D53-8F0A-96D04FC47B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674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240" y="4289400"/>
            <a:ext cx="8674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14288-0BA8-4D31-B22F-56ED9A1CB2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23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3160" y="1980720"/>
            <a:ext cx="423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289400"/>
            <a:ext cx="423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3160" y="4289400"/>
            <a:ext cx="423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C0DDD-1C66-49F4-80A6-C6BF7C9213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279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61160" y="1980720"/>
            <a:ext cx="279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4080" y="1980720"/>
            <a:ext cx="279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240" y="4289400"/>
            <a:ext cx="279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61160" y="4289400"/>
            <a:ext cx="279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94080" y="4289400"/>
            <a:ext cx="279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1A9BD-10E5-4089-A963-6F59DAC7B2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C0E3-CDA4-4E28-A2A0-A6AD208FCA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28240" y="1980720"/>
            <a:ext cx="86742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CC72-EB1E-4FFB-AE87-A898552EF9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674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97D2-E308-4A65-AE23-E105E7F9F6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232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1980720"/>
            <a:ext cx="4232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E4E5-D5D0-44BB-85C2-E0DE05B8A8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0407-9E58-4636-8683-CE339E8424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9AAB-CBEC-4614-82CD-1A0B3B6EB9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23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1980720"/>
            <a:ext cx="4232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240" y="4289400"/>
            <a:ext cx="423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EB7D-DD6A-4AB5-873A-818174CC5F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240" y="1980720"/>
            <a:ext cx="86742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D4B2A-4E78-49B8-A357-8E3D5C7B4A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232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160" y="1980720"/>
            <a:ext cx="423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3160" y="4289400"/>
            <a:ext cx="423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7ACC-1478-49B5-BAF6-173C802010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23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160" y="1980720"/>
            <a:ext cx="423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289400"/>
            <a:ext cx="8674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4A20-D2FB-401B-A30A-49769CBC77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674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28240" y="4289400"/>
            <a:ext cx="8674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7234-16F0-4C8F-B8C2-58A50A3A03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23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160" y="1980720"/>
            <a:ext cx="423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289400"/>
            <a:ext cx="423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3160" y="4289400"/>
            <a:ext cx="423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3372-718A-4429-9E5C-AFFF2D08AE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279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61160" y="1980720"/>
            <a:ext cx="279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080" y="1980720"/>
            <a:ext cx="279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28240" y="4289400"/>
            <a:ext cx="279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61160" y="4289400"/>
            <a:ext cx="279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94080" y="4289400"/>
            <a:ext cx="279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216D-8E44-4428-92E7-6A62A12C4D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674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506EE-E4D2-4B4F-834B-372141AE5B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232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1980720"/>
            <a:ext cx="4232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337F7-3F90-4DB8-8808-1B50FBCF5E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59A64-366A-4CC0-BB53-70ABCE7AA4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62C48-874C-47FA-92F1-9A731FB7C8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23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160" y="1980720"/>
            <a:ext cx="4232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240" y="4289400"/>
            <a:ext cx="423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64E83-1E4B-4591-AC6A-E26703BF11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232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160" y="1980720"/>
            <a:ext cx="423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3160" y="4289400"/>
            <a:ext cx="423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5169E-DFE2-4459-9CC3-548E16EF43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23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160" y="1980720"/>
            <a:ext cx="4232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240" y="4289400"/>
            <a:ext cx="8674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08C25-4F64-48DF-86BE-C98164D5EF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28440" y="-61920"/>
            <a:ext cx="9200880" cy="6981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-28440" y="-61920"/>
            <a:ext cx="9200880" cy="6981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8240" y="1980720"/>
            <a:ext cx="8674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spcBef>
                <a:spcPts val="1375"/>
              </a:spcBef>
              <a:buClr>
                <a:srgbClr val="3333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375"/>
              </a:spcBef>
              <a:buClr>
                <a:srgbClr val="333399"/>
              </a:buClr>
              <a:buSzPct val="9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1375"/>
              </a:spcBef>
              <a:buClr>
                <a:srgbClr val="33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1375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8610480" y="6500880"/>
            <a:ext cx="53352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84E8-6FEA-4292-9330-256DE543108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" name="Object 6"/>
          <p:cNvGraphicFramePr/>
          <p:nvPr/>
        </p:nvGraphicFramePr>
        <p:xfrm>
          <a:off x="762120" y="152280"/>
          <a:ext cx="6379920" cy="790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152280"/>
                    <a:ext cx="637992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" name="Object 7"/>
          <p:cNvGraphicFramePr/>
          <p:nvPr/>
        </p:nvGraphicFramePr>
        <p:xfrm>
          <a:off x="762120" y="152280"/>
          <a:ext cx="6379920" cy="790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2120" y="152280"/>
                    <a:ext cx="637992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PlaceHolder 3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9" descr=""/>
          <p:cNvPicPr/>
          <p:nvPr/>
        </p:nvPicPr>
        <p:blipFill>
          <a:blip r:embed="rId2"/>
          <a:stretch/>
        </p:blipFill>
        <p:spPr>
          <a:xfrm>
            <a:off x="-28440" y="-61920"/>
            <a:ext cx="9200880" cy="6981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"/>
          <p:cNvPicPr/>
          <p:nvPr/>
        </p:nvPicPr>
        <p:blipFill>
          <a:blip r:embed="rId3"/>
          <a:stretch/>
        </p:blipFill>
        <p:spPr>
          <a:xfrm>
            <a:off x="-28440" y="-61920"/>
            <a:ext cx="9200880" cy="698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Object 6"/>
          <p:cNvGraphicFramePr/>
          <p:nvPr/>
        </p:nvGraphicFramePr>
        <p:xfrm>
          <a:off x="762120" y="152280"/>
          <a:ext cx="6379920" cy="790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152280"/>
                    <a:ext cx="637992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7"/>
          <p:cNvGraphicFramePr/>
          <p:nvPr/>
        </p:nvGraphicFramePr>
        <p:xfrm>
          <a:off x="762120" y="152280"/>
          <a:ext cx="6379920" cy="790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1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2120" y="152280"/>
                    <a:ext cx="637992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228240" y="1980720"/>
            <a:ext cx="8674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spcBef>
                <a:spcPts val="1375"/>
              </a:spcBef>
              <a:buClr>
                <a:srgbClr val="3333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375"/>
              </a:spcBef>
              <a:buClr>
                <a:srgbClr val="333399"/>
              </a:buClr>
              <a:buSzPct val="9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1375"/>
              </a:spcBef>
              <a:buClr>
                <a:srgbClr val="33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1375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3"/>
          </p:nvPr>
        </p:nvSpPr>
        <p:spPr>
          <a:xfrm>
            <a:off x="8610480" y="6500880"/>
            <a:ext cx="53352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B377-6C7D-4566-A142-55533FAE96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6040" y="2060640"/>
            <a:ext cx="8229600" cy="17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spital Preparedness Program Cooperative Agreement as it related to the Pandemic and All-Hazards Preparedness Act (PAHPA) reauthorization and the National Health Security Strateg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836800" y="4700520"/>
            <a:ext cx="3422880" cy="110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vin Yeskey, M.D.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uty Assistant Secretary Director, Office of Preparedness and Emergency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7" descr=""/>
          <p:cNvPicPr/>
          <p:nvPr/>
        </p:nvPicPr>
        <p:blipFill>
          <a:blip r:embed="rId1"/>
          <a:stretch/>
        </p:blipFill>
        <p:spPr>
          <a:xfrm>
            <a:off x="228600" y="1314360"/>
            <a:ext cx="86742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0" descr="2 - Adopted National Incident Command Structure"/>
          <p:cNvPicPr/>
          <p:nvPr/>
        </p:nvPicPr>
        <p:blipFill>
          <a:blip r:embed="rId1"/>
          <a:stretch/>
        </p:blipFill>
        <p:spPr>
          <a:xfrm>
            <a:off x="649440" y="1898640"/>
            <a:ext cx="679608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312840" y="1981080"/>
            <a:ext cx="8505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4:46:45Z</dcterms:created>
  <dc:creator>Haroun Habib</dc:creator>
  <dc:description>&amp;lt;p&amp;gt;Hospital Preparedness Program Cooperative Agreement as it related to the Pandemic and All-Hazards Preparedness Act (PAHPA) reauthorization and the National Health Security Strategy Kevin Yeskey, M.D.               Deputy Assistant Secretary Director, Office of Preparedness and Emergency Operations * *  &amp;lt;/p&amp;gt;</dc:description>
  <dc:language>en-US</dc:language>
  <cp:lastModifiedBy>Haroun Habib</cp:lastModifiedBy>
  <dcterms:modified xsi:type="dcterms:W3CDTF">2010-09-21T16:37:56Z</dcterms:modified>
  <cp:revision>0</cp:revision>
  <dc:subject>&amp;lt;p&amp;gt;Hospital Preparedness Program Cooperative Agreement as it related to the Pandemic and All-Hazards Preparedness Act (PAHPA) reauthorization and the National Health Security Strategy Kevin Yeskey, M.D.               Deputy Assistant Secretary Director, Office of Preparedness and Emergency Operations * *  &amp;lt;/p&amp;gt;</dc:subject>
  <dc:title>Hospital Preparedness Program as it relates to PAHPA &amp;amp; NHSS-Dr. Yeske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EktCmsPath">
    <vt:lpwstr>&amp;lt;p&amp;gt;Hospital Preparedness Program Cooperative Agreement as it related to the Pandemic and All-Hazards Preparedness Act (PAHPA) reauthorization and the National Health Security Strategy Kevin Yeskey, M.D.               Deputy Assistant Secretary Director, Office of Preparedness and Emergency Operations * *  &amp;lt;/p&amp;gt;</vt:lpwstr>
  </property>
  <property fmtid="{D5CDD505-2E9C-101B-9397-08002B2CF9AE}" pid="3" name="EktCmsSize">
    <vt:r8>441344</vt:r8>
  </property>
  <property fmtid="{D5CDD505-2E9C-101B-9397-08002B2CF9AE}" pid="4" name="EktContentLanguage">
    <vt:r8>1033</vt:r8>
  </property>
  <property fmtid="{D5CDD505-2E9C-101B-9397-08002B2CF9AE}" pid="5" name="EktContentSubType">
    <vt:r8>0</vt:r8>
  </property>
  <property fmtid="{D5CDD505-2E9C-101B-9397-08002B2CF9AE}" pid="6" name="EktContentType">
    <vt:r8>101</vt:r8>
  </property>
  <property fmtid="{D5CDD505-2E9C-101B-9397-08002B2CF9AE}" pid="7" name="EktDateCreated">
    <vt:filetime>2010-10-29T18:09:02Z</vt:filetime>
  </property>
  <property fmtid="{D5CDD505-2E9C-101B-9397-08002B2CF9AE}" pid="8" name="EktDateModified">
    <vt:filetime>2010-10-29T18:09:04Z</vt:filetime>
  </property>
  <property fmtid="{D5CDD505-2E9C-101B-9397-08002B2CF9AE}" pid="9" name="EktDisabledTaxCategory">
    <vt:lpwstr/>
  </property>
  <property fmtid="{D5CDD505-2E9C-101B-9397-08002B2CF9AE}" pid="10" name="EktEDescription">
    <vt:lpwstr>Summary &amp;lt;p&amp;gt;Hospital Preparedness Program Cooperative Agreement as it related to the Pandemic and All-Hazards Preparedness Act (PAHPA) reauthorization and the National Health Security Strategy Kevin Yeskey, M.D.               Deputy Assistant Secretary Director, Office of Preparedness and Emergency Operations * *  &amp;lt;/p&amp;gt;</vt:lpwstr>
  </property>
  <property fmtid="{D5CDD505-2E9C-101B-9397-08002B2CF9AE}" pid="11" name="EktExpiryType">
    <vt:r8>1</vt:r8>
  </property>
  <property fmtid="{D5CDD505-2E9C-101B-9397-08002B2CF9AE}" pid="12" name="EktFolderName">
    <vt:lpwstr/>
  </property>
  <property fmtid="{D5CDD505-2E9C-101B-9397-08002B2CF9AE}" pid="13" name="EktQuickLink">
    <vt:lpwstr>DownloadAsset.aspx?id=5230</vt:lpwstr>
  </property>
  <property fmtid="{D5CDD505-2E9C-101B-9397-08002B2CF9AE}" pid="14" name="EktSearchable">
    <vt:r8>1</vt:r8>
  </property>
  <property fmtid="{D5CDD505-2E9C-101B-9397-08002B2CF9AE}" pid="15" name="EktShort_Description">
    <vt:lpwstr>Hospital Preparedness Program Cooperative Agreement as it related to the Pandemic and All-Hazards Preparedness Act (PAHPA) reauthorization and the National Health Security Strategy</vt:lpwstr>
  </property>
  <property fmtid="{D5CDD505-2E9C-101B-9397-08002B2CF9AE}" pid="16" name="EktTaxCategory">
    <vt:lpwstr> #eksep# \ASTHO Programs\Preparedness #eksep# </vt:lpwstr>
  </property>
</Properties>
</file>