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78F4C7-82D4-4732-B6E1-A866EB118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83BBA5-2229-435C-AF6C-50187FC01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0ABB4C-A546-487D-B8B6-ABAA073C3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678D70-23B5-4B0D-AE07-BADE9B4AA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2BF6B4-AED8-422F-8255-89B31F351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95E526-6B45-462D-A2BA-3D63B11E3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27BF49-E19A-45EC-8BE6-5661C1448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0A3ABC-C11B-4770-A1AF-6EA760926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5BDC91-0BA7-4403-96A0-22F165F29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ECBEFE-67F9-410F-A4CA-E6510CEAF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167B7B-07F5-49B3-9DC6-5FF6EE1D5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6984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44760" y="159984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6984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244760" y="366984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56680" y="159984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455800" y="159984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6984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56680" y="366984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455800" y="366984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244760" y="159984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44760" y="159984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6984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44760" y="159984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44760" y="366984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44760" y="159984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6984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235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Line 8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3"/>
          <a:stretch/>
        </p:blipFill>
        <p:spPr>
          <a:xfrm>
            <a:off x="8001000" y="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752480" y="5257440"/>
            <a:ext cx="60724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Department of Health and Human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ASPR/OPEO/Fusion Ce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2286000" y="1752480"/>
            <a:ext cx="4724280" cy="30481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avbedLogo"/>
          <p:cNvPicPr/>
          <p:nvPr/>
        </p:nvPicPr>
        <p:blipFill>
          <a:blip r:embed="rId1"/>
          <a:stretch/>
        </p:blipFill>
        <p:spPr>
          <a:xfrm>
            <a:off x="2895480" y="2057400"/>
            <a:ext cx="3505320" cy="23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8229600" cy="30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3000" indent="-33300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3000" indent="-33300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Role of HAvBED during Respo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3000" indent="-33300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3000" indent="-33300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Panel Discussion: Challenges &amp; Sol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429000" y="1522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Rockwel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avbedLogo"/>
          <p:cNvPicPr/>
          <p:nvPr/>
        </p:nvPicPr>
        <p:blipFill>
          <a:blip r:embed="rId1"/>
          <a:stretch/>
        </p:blipFill>
        <p:spPr>
          <a:xfrm>
            <a:off x="7543800" y="5715000"/>
            <a:ext cx="13716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Rockwel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5410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ckwell"/>
              </a:rPr>
              <a:t>Initiative funded by Hospital Preparedness Program in the Office of the Assistant Secretary for Preparedness and Response (ASPR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3160" indent="-173160"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ckwell"/>
              </a:rPr>
              <a:t>WEB-BASED national system for states/healthcare facilities to report REAL-TIME healthcare facility stress and bed counts during a public health ev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3160" indent="-173160"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ckwell"/>
              </a:rPr>
              <a:t>Informs decision-makers at the state, regional, and federal level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172200" y="2362320"/>
            <a:ext cx="2438280" cy="2438280"/>
          </a:xfrm>
          <a:prstGeom prst="rect">
            <a:avLst/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The data that states report in HAvBED is a resource for decision-makers to gain situational awareness during a public health emergenc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HavbedLogo"/>
          <p:cNvPicPr/>
          <p:nvPr/>
        </p:nvPicPr>
        <p:blipFill>
          <a:blip r:embed="rId1"/>
          <a:stretch/>
        </p:blipFill>
        <p:spPr>
          <a:xfrm>
            <a:off x="7543800" y="571500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55627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96720" indent="-16812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ckwell"/>
              </a:rPr>
              <a:t>Data input by states and healthcare fac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-16812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ckwell"/>
              </a:rPr>
              <a:t>Data analysis shows healthcare facility  stress and g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-16812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ckwell"/>
              </a:rPr>
              <a:t>DHHS Regional Emergency Coordinators (RECs) anticipate needs during times of an emergency or special ev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29196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Rockwell"/>
              </a:rPr>
              <a:t>Disasters - 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 floods, hurricanes, and f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29196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Rockwell"/>
              </a:rPr>
              <a:t>Special events - 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Presidential Inauguration, drills, and exerci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743200" y="3808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ockwell"/>
              </a:rPr>
              <a:t>Role of HAvBED during Respo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avbedLogo"/>
          <p:cNvPicPr/>
          <p:nvPr/>
        </p:nvPicPr>
        <p:blipFill>
          <a:blip r:embed="rId1"/>
          <a:stretch/>
        </p:blipFill>
        <p:spPr>
          <a:xfrm>
            <a:off x="7543800" y="571500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60" name="_s1028"/>
          <p:cNvSpPr/>
          <p:nvPr/>
        </p:nvSpPr>
        <p:spPr>
          <a:xfrm>
            <a:off x="6095880" y="1981080"/>
            <a:ext cx="1828800" cy="91440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12050" y="3709"/>
                </a:moveTo>
                <a:cubicBezTo>
                  <a:pt x="11637" y="3636"/>
                  <a:pt x="11219" y="3600"/>
                  <a:pt x="10800" y="3600"/>
                </a:cubicBezTo>
                <a:cubicBezTo>
                  <a:pt x="9107" y="3599"/>
                  <a:pt x="7468" y="4196"/>
                  <a:pt x="6171" y="5284"/>
                </a:cubicBezTo>
                <a:lnTo>
                  <a:pt x="3857" y="2526"/>
                </a:lnTo>
                <a:cubicBezTo>
                  <a:pt x="5802" y="894"/>
                  <a:pt x="8260" y="-1"/>
                  <a:pt x="10800" y="0"/>
                </a:cubicBezTo>
                <a:cubicBezTo>
                  <a:pt x="11428" y="0"/>
                  <a:pt x="12056" y="54"/>
                  <a:pt x="12675" y="164"/>
                </a:cubicBezTo>
                <a:lnTo>
                  <a:pt x="13144" y="-2495"/>
                </a:lnTo>
                <a:lnTo>
                  <a:pt x="16794" y="2717"/>
                </a:lnTo>
                <a:lnTo>
                  <a:pt x="11581" y="6368"/>
                </a:lnTo>
                <a:lnTo>
                  <a:pt x="12050" y="3709"/>
                </a:lnTo>
                <a:close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_s1029"/>
          <p:cNvSpPr/>
          <p:nvPr/>
        </p:nvSpPr>
        <p:spPr>
          <a:xfrm rot="7200000">
            <a:off x="7238520" y="3352320"/>
            <a:ext cx="1295640" cy="838440"/>
          </a:xfrm>
          <a:custGeom>
            <a:avLst/>
            <a:gdLst>
              <a:gd name="textAreaLeft" fmla="*/ 189720 w 1295640"/>
              <a:gd name="textAreaRight" fmla="*/ 1105920 w 1295640"/>
              <a:gd name="textAreaTop" fmla="*/ 122760 h 838440"/>
              <a:gd name="textAreaBottom" fmla="*/ 715680 h 838440"/>
            </a:gdLst>
            <a:ahLst/>
            <a:rect l="textAreaLeft" t="textAreaTop" r="textAreaRight" b="textAreaBottom"/>
            <a:pathLst>
              <a:path w="21600" h="21600">
                <a:moveTo>
                  <a:pt x="12050" y="3709"/>
                </a:moveTo>
                <a:cubicBezTo>
                  <a:pt x="11637" y="3636"/>
                  <a:pt x="11219" y="3600"/>
                  <a:pt x="10800" y="3600"/>
                </a:cubicBezTo>
                <a:cubicBezTo>
                  <a:pt x="9107" y="3599"/>
                  <a:pt x="7468" y="4196"/>
                  <a:pt x="6171" y="5284"/>
                </a:cubicBezTo>
                <a:lnTo>
                  <a:pt x="3857" y="2526"/>
                </a:lnTo>
                <a:cubicBezTo>
                  <a:pt x="5802" y="894"/>
                  <a:pt x="8260" y="-1"/>
                  <a:pt x="10800" y="0"/>
                </a:cubicBezTo>
                <a:cubicBezTo>
                  <a:pt x="11428" y="0"/>
                  <a:pt x="12056" y="54"/>
                  <a:pt x="12675" y="164"/>
                </a:cubicBezTo>
                <a:lnTo>
                  <a:pt x="13144" y="-2495"/>
                </a:lnTo>
                <a:lnTo>
                  <a:pt x="16794" y="2717"/>
                </a:lnTo>
                <a:lnTo>
                  <a:pt x="11581" y="6368"/>
                </a:lnTo>
                <a:lnTo>
                  <a:pt x="12050" y="3709"/>
                </a:lnTo>
                <a:close/>
              </a:path>
            </a:pathLst>
          </a:custGeom>
          <a:noFill/>
          <a:ln w="158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_s1030"/>
          <p:cNvSpPr/>
          <p:nvPr/>
        </p:nvSpPr>
        <p:spPr>
          <a:xfrm rot="14400000">
            <a:off x="5395320" y="3290400"/>
            <a:ext cx="1538280" cy="900000"/>
          </a:xfrm>
          <a:custGeom>
            <a:avLst/>
            <a:gdLst>
              <a:gd name="textAreaLeft" fmla="*/ 225000 w 1538280"/>
              <a:gd name="textAreaRight" fmla="*/ 1313280 w 1538280"/>
              <a:gd name="textAreaTop" fmla="*/ 131760 h 900000"/>
              <a:gd name="textAreaBottom" fmla="*/ 768240 h 900000"/>
            </a:gdLst>
            <a:ahLst/>
            <a:rect l="textAreaLeft" t="textAreaTop" r="textAreaRight" b="textAreaBottom"/>
            <a:pathLst>
              <a:path w="21600" h="21600">
                <a:moveTo>
                  <a:pt x="12050" y="3709"/>
                </a:moveTo>
                <a:cubicBezTo>
                  <a:pt x="11637" y="3636"/>
                  <a:pt x="11219" y="3600"/>
                  <a:pt x="10800" y="3600"/>
                </a:cubicBezTo>
                <a:cubicBezTo>
                  <a:pt x="9107" y="3599"/>
                  <a:pt x="7468" y="4196"/>
                  <a:pt x="6171" y="5284"/>
                </a:cubicBezTo>
                <a:lnTo>
                  <a:pt x="3857" y="2526"/>
                </a:lnTo>
                <a:cubicBezTo>
                  <a:pt x="5802" y="894"/>
                  <a:pt x="8260" y="-1"/>
                  <a:pt x="10800" y="0"/>
                </a:cubicBezTo>
                <a:cubicBezTo>
                  <a:pt x="11428" y="0"/>
                  <a:pt x="12056" y="54"/>
                  <a:pt x="12675" y="164"/>
                </a:cubicBezTo>
                <a:lnTo>
                  <a:pt x="13144" y="-2495"/>
                </a:lnTo>
                <a:lnTo>
                  <a:pt x="16794" y="2717"/>
                </a:lnTo>
                <a:lnTo>
                  <a:pt x="11581" y="6368"/>
                </a:lnTo>
                <a:lnTo>
                  <a:pt x="12050" y="3709"/>
                </a:lnTo>
                <a:close/>
              </a:path>
            </a:pathLst>
          </a:custGeom>
          <a:noFill/>
          <a:ln w="158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7391520" y="2362320"/>
            <a:ext cx="205740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560" indent="-52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HS Analy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 gene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 outrea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 Forum (via Ops portal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_s1032"/>
          <p:cNvSpPr/>
          <p:nvPr/>
        </p:nvSpPr>
        <p:spPr>
          <a:xfrm>
            <a:off x="6324480" y="4038480"/>
            <a:ext cx="14274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C Feedb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ort corrections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257800" y="24382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Data Colle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put from individual facilities and/or Stat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5562720" y="12952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Rockwell"/>
              </a:rPr>
              <a:t>How Reporting Work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Rockwell"/>
              </a:rPr>
              <a:t>2009-2010 H1N1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25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Rockwell"/>
              </a:rPr>
              <a:t>Original intent for HAvBED was to track bed count at the local/regional level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35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lnSpc>
                <a:spcPct val="90000"/>
              </a:lnSpc>
              <a:spcBef>
                <a:spcPts val="425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Rockwell"/>
              </a:rPr>
              <a:t>Initiative expanded the mission to improve situational awareness on healthcare surge during the pandemic so that the federal level can deploy supportive assets to states, if needed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35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505320" y="3048120"/>
          <a:ext cx="5257800" cy="2841480"/>
        </p:xfrm>
        <a:graphic>
          <a:graphicData uri="http://schemas.openxmlformats.org/drawingml/2006/table">
            <a:tbl>
              <a:tblPr/>
              <a:tblGrid>
                <a:gridCol w="1752480"/>
                <a:gridCol w="35053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cc00"/>
                          </a:solidFill>
                          <a:latin typeface="Rockwell"/>
                        </a:rPr>
                        <a:t>Initial               Data Ele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cc00"/>
                          </a:solidFill>
                          <a:latin typeface="Rockwell"/>
                        </a:rPr>
                        <a:t>Additional                                              Data Elements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3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Bed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entilator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Rescue therapies (adults +   children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Ancillary Ventilator Suppli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nc. demand for patient care servic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nc. in patients who left ED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Disaster protoco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mplemented Surge Strateg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Staff Shortag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General Medical Suppli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Pharmaceutical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Personal protective Equipmen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90"/>
          <p:cNvSpPr/>
          <p:nvPr/>
        </p:nvSpPr>
        <p:spPr>
          <a:xfrm>
            <a:off x="0" y="3581280"/>
            <a:ext cx="3429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SULT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s were asked to report additional surge data elements weekl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avbedLogo"/>
          <p:cNvPicPr/>
          <p:nvPr/>
        </p:nvPicPr>
        <p:blipFill>
          <a:blip r:embed="rId1"/>
          <a:stretch/>
        </p:blipFill>
        <p:spPr>
          <a:xfrm>
            <a:off x="7924680" y="6019920"/>
            <a:ext cx="99072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Rockwell"/>
              </a:rPr>
              <a:t>2009-2010 H1N1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685800" y="1409760"/>
          <a:ext cx="7238880" cy="50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09760"/>
                    <a:ext cx="723888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Picture 4" descr="HavbedLogo"/>
          <p:cNvPicPr/>
          <p:nvPr/>
        </p:nvPicPr>
        <p:blipFill>
          <a:blip r:embed="rId3"/>
          <a:stretch/>
        </p:blipFill>
        <p:spPr>
          <a:xfrm>
            <a:off x="7696080" y="5791320"/>
            <a:ext cx="1219320" cy="812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3"/>
          <p:cNvSpPr/>
          <p:nvPr/>
        </p:nvSpPr>
        <p:spPr>
          <a:xfrm>
            <a:off x="2057400" y="1219320"/>
            <a:ext cx="52578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jority of states participated in the respon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838080" y="632448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: CDC: FluView [Internet]. Atlanta: Centers for Disease Control and Prevention; [updated 2009 Dec 04]. Seasonal Influenza (Flu); [updated 2009 Dec 11; cited 2009 Dec 11]; [1 screen]. Available from http://www.cdc.gov/flu/weekly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Rockwel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0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Improve collaboration and data sharing between states, the HPP, RECs, state emergency initiatives and the ASPR by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235080">
              <a:lnSpc>
                <a:spcPct val="10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More Talking - </a:t>
            </a: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with states/facilities key contact persons throughout the year and sharing their progress through summary report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Making it Easier -</a:t>
            </a: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  for states to input data through data auto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Testing the System - </a:t>
            </a: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regularly to maintain good relationships with RECs/states/facil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Reduce Double Efforts - </a:t>
            </a: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adjust to work with other state data submission requirements (NDMS/DO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6781680" y="2590920"/>
            <a:ext cx="2057400" cy="1618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ates’ participation is KEY to HAvBED’s func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HavbedLogo"/>
          <p:cNvPicPr/>
          <p:nvPr/>
        </p:nvPicPr>
        <p:blipFill>
          <a:blip r:embed="rId1"/>
          <a:stretch/>
        </p:blipFill>
        <p:spPr>
          <a:xfrm>
            <a:off x="7543800" y="5715000"/>
            <a:ext cx="1295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Rockwell"/>
              </a:rPr>
              <a:t>Panel Discu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HavbedLogo"/>
          <p:cNvPicPr/>
          <p:nvPr/>
        </p:nvPicPr>
        <p:blipFill>
          <a:blip r:embed="rId1"/>
          <a:stretch/>
        </p:blipFill>
        <p:spPr>
          <a:xfrm>
            <a:off x="7467480" y="5715000"/>
            <a:ext cx="1295640" cy="863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1219320" y="121932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533520" y="2133720"/>
            <a:ext cx="7619760" cy="38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Rockwell"/>
              </a:rPr>
              <a:t>Panel Members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RADM Ann Knebel, HHS/ASPR/OPEO – Facilitato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Jennifer Olsen, HHS/ASPR/OPE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Darryl Hardge, Hospital Preparedness Program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Mark Libby and Ron Pinheiro, Regional Emergency Coordinator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State HPP Coordinators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88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Mary Duley, Connecticu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88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Rebecca Curtiss, Iow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88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Mary Clark, Massachusett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457200" y="1523880"/>
            <a:ext cx="8229600" cy="398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Challenges, Solutions, and Suc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What were your past experiences with HAvBED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How you found HAvBED to be beneficial to your state and/or region; in terms of initial vs. additional data element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Do you perceive that the HAvBED activation during H1N1 was useful to your sta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What are the most important features you think should change about how the program works, or about federal, state, and healthcare facility involveme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What are the areas of improvement at the federal and/or state level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How can ASPR better give feedback to state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Rockwell"/>
              </a:rPr>
              <a:t>Panel Discu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28600" y="1219320"/>
            <a:ext cx="8686800" cy="398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Ques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HavbedLogo"/>
          <p:cNvPicPr/>
          <p:nvPr/>
        </p:nvPicPr>
        <p:blipFill>
          <a:blip r:embed="rId1"/>
          <a:stretch/>
        </p:blipFill>
        <p:spPr>
          <a:xfrm>
            <a:off x="7772400" y="5943600"/>
            <a:ext cx="106668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15:35:36Z</dcterms:created>
  <dc:creator>Haroun Habib</dc:creator>
  <dc:description>&amp;lt;p&amp;gt;Department of Health and Human Services ASPR/OPEO/Fusion Cell Overview  Role of HAvBED during Response  Next Steps  Panel Discussion: Challenges &amp;amp;amp; Solutions   Agenda Overview Initiative funded by Hospital Preparedness Program in the Office of the Assistant Secretary for Preparedness and Response (ASPR).  WEB-BASED nati&amp;lt;/p&amp;gt;</dc:description>
  <dc:language>en-US</dc:language>
  <cp:lastModifiedBy>Haroun Habib</cp:lastModifiedBy>
  <dcterms:modified xsi:type="dcterms:W3CDTF">2010-09-30T13:45:19Z</dcterms:modified>
  <cp:revision>0</cp:revision>
  <dc:subject>&amp;lt;p&amp;gt;Department of Health and Human Services ASPR/OPEO/Fusion Cell Overview  Role of HAvBED during Response  Next Steps  Panel Discussion: Challenges &amp;amp;amp; Solutions   Agenda Overview Initiative funded by Hospital Preparedness Program in the Office of the Assistant Secretary for Preparedness and Response (ASPR).  WEB-BASED nati&amp;lt;/p&amp;gt;</dc:subject>
  <dc:title>DPHP PPT 2010: HAvBED Panel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ktCmsPath">
    <vt:lpwstr>&amp;lt;p&amp;gt;Department of Health and Human Services ASPR/OPEO/Fusion Cell Overview  Role of HAvBED during Response  Next Steps  Panel Discussion: Challenges &amp;amp;amp; Solutions   Agenda Overview Initiative funded by Hospital Preparedness Program in the Office of the Assistant Secretary for Preparedness and Response (ASPR).  WEB-BASED nati&amp;lt;/p&amp;gt;</vt:lpwstr>
  </property>
  <property fmtid="{D5CDD505-2E9C-101B-9397-08002B2CF9AE}" pid="3" name="EktCmsSize">
    <vt:r8>256512</vt:r8>
  </property>
  <property fmtid="{D5CDD505-2E9C-101B-9397-08002B2CF9AE}" pid="4" name="EktContentLanguage">
    <vt:r8>1033</vt:r8>
  </property>
  <property fmtid="{D5CDD505-2E9C-101B-9397-08002B2CF9AE}" pid="5" name="EktContentSubType">
    <vt:r8>0</vt:r8>
  </property>
  <property fmtid="{D5CDD505-2E9C-101B-9397-08002B2CF9AE}" pid="6" name="EktContentType">
    <vt:r8>101</vt:r8>
  </property>
  <property fmtid="{D5CDD505-2E9C-101B-9397-08002B2CF9AE}" pid="7" name="EktDateCreated">
    <vt:filetime>2010-10-29T18:00:34Z</vt:filetime>
  </property>
  <property fmtid="{D5CDD505-2E9C-101B-9397-08002B2CF9AE}" pid="8" name="EktDateModified">
    <vt:filetime>2010-10-29T18:00:36Z</vt:filetime>
  </property>
  <property fmtid="{D5CDD505-2E9C-101B-9397-08002B2CF9AE}" pid="9" name="EktDisabledTaxCategory">
    <vt:lpwstr/>
  </property>
  <property fmtid="{D5CDD505-2E9C-101B-9397-08002B2CF9AE}" pid="10" name="EktEDescription">
    <vt:lpwstr>Summary &amp;lt;p&amp;gt;Department of Health and Human Services ASPR/OPEO/Fusion Cell Overview  Role of HAvBED during Response  Next Steps  Panel Discussion: Challenges &amp;amp;amp; Solutions   Agenda Overview Initiative funded by Hospital Preparedness Program in the Office of the Assistant Secretary for Preparedness and Response (ASPR).  WEB-BASED nati&amp;lt;/p&amp;gt;</vt:lpwstr>
  </property>
  <property fmtid="{D5CDD505-2E9C-101B-9397-08002B2CF9AE}" pid="11" name="EktExpiryType">
    <vt:r8>1</vt:r8>
  </property>
  <property fmtid="{D5CDD505-2E9C-101B-9397-08002B2CF9AE}" pid="12" name="EktFolderName">
    <vt:lpwstr/>
  </property>
  <property fmtid="{D5CDD505-2E9C-101B-9397-08002B2CF9AE}" pid="13" name="EktQuickLink">
    <vt:lpwstr>DownloadAsset.aspx?id=5229</vt:lpwstr>
  </property>
  <property fmtid="{D5CDD505-2E9C-101B-9397-08002B2CF9AE}" pid="14" name="EktSearchable">
    <vt:r8>1</vt:r8>
  </property>
  <property fmtid="{D5CDD505-2E9C-101B-9397-08002B2CF9AE}" pid="15" name="EktShort_Description">
    <vt:lpwstr>The data that states report in HAvBED is a resource for decision-makers to gain situational awareness during a public health emergency.</vt:lpwstr>
  </property>
  <property fmtid="{D5CDD505-2E9C-101B-9397-08002B2CF9AE}" pid="16" name="EktTaxCategory">
    <vt:lpwstr> #eksep# \ASTHO Programs\Preparedness #eksep# </vt:lpwstr>
  </property>
</Properties>
</file>